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6.jpeg" ContentType="image/jpeg"/>
  <Override PartName="/ppt/media/image5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9.jpeg" ContentType="image/jpeg"/>
  <Override PartName="/ppt/media/image11.png" ContentType="image/png"/>
  <Override PartName="/ppt/media/image9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6.jpeg" ContentType="image/jpeg"/>
  <Override PartName="/ppt/media/image13.jpeg" ContentType="image/jpeg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media/image2.wmf" ContentType="image/x-wmf"/>
  <Override PartName="/ppt/media/image2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71DA-2FB7-4FB9-97F8-B56E062ED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829E-C202-4B17-9A28-FA0A20103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1D4D-6958-4863-8B1B-D48660EE0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E841-5302-422D-939C-4C14A0D92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0B686-94D9-41F2-BCCB-A8FB663B5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11EC9-D5E0-4896-8575-CF93A468D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FA371-AD55-4EB5-A830-8B027F479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CA617-4DA0-42C6-A3B3-0700C174C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85265-EF98-4EF2-AC30-327098A9C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4EBF6-6889-498A-857E-9925B86F7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0E184-3708-4A2D-ACE0-C7077DFA5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E7DE-17E4-4242-8ED4-D8B657D38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E2F9F-2831-4305-82B0-6DDC810D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22431-0669-4141-BFFF-38C0A63C9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96050-646B-4B01-AFD1-27475F66D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E8CE6-9DA3-4434-885B-470F0171B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0243B-737E-40A1-9F71-F3A126003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9E87-AD06-4017-8407-B9347438B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3DF5-CB78-4E62-8247-F491C4C24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FFBD-5A88-419D-93FC-56E3B7C55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35CC-B34A-41A9-B4AF-1A90D660E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1746-A55A-459D-BE28-6A80FD334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3BA1-6B20-4ED4-9673-4D22243AC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AA9F-70F5-4200-ABB2-E72EF47C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F87FE-0BC5-4728-99AF-6B99591D34E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1F742-CDCF-4374-A38C-2DD2E3A82E1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uter Par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are many parts that work together to make a computer wor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876920" y="190188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yboar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enter information into the computer and for giving command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5029200" y="2554200"/>
          <a:ext cx="3886200" cy="29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2554200"/>
                    <a:ext cx="3886200" cy="29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u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input device operated by rolling its ball across a flat surface.  The mouse is used to control the on-screen pointer by pointing and clicking, double-clicking, or dragging objects on the scre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5" name="" descr="Logitech MX510 Performance Optical Mouse (Blue)"/>
          <p:cNvPicPr/>
          <p:nvPr/>
        </p:nvPicPr>
        <p:blipFill>
          <a:blip r:embed="rId1"/>
          <a:stretch/>
        </p:blipFill>
        <p:spPr>
          <a:xfrm>
            <a:off x="5410080" y="2362320"/>
            <a:ext cx="327672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ouchpa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ressure-sensitive and motion sensitive device used in place of a mous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181480" y="2206800"/>
            <a:ext cx="3733920" cy="37335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495680" y="5105520"/>
            <a:ext cx="251460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D Rom Driv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drive that plays CDs and reads data that has been stored on the C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257800" y="2282760"/>
            <a:ext cx="358128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ct Disk – A type of optical storage devi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105520" y="2130480"/>
            <a:ext cx="37335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loppy Disk Driv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ice that holds a removable floppy disk when in use; read/write heads read and write data to the disket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105520" y="2130480"/>
            <a:ext cx="37335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rd Dis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gnetic storage device in the comput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6132600" y="2017800"/>
          <a:ext cx="183492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32600" y="2017800"/>
                    <a:ext cx="183492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4724280" y="1905120"/>
            <a:ext cx="4078440" cy="40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A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dom Access Memo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M is a computer’s temporary memory, which exists as chips on the motherboard near the CPU.  It stores data or programs while they are being used and requires pow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int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utput device that produces a hard copy on paper.  It gives information to the user in printed for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952880" y="1978200"/>
            <a:ext cx="38862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rcode Read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put device that converts a pattern of printed bars into a number that a computer can read.  They are often used by businesses to quickly input price and product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029200" y="198108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rdwa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parts of the computer, including processor and memory chips, input/output devices, tapes, disks, modems, cable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132600" y="2017800"/>
          <a:ext cx="183492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32600" y="2017800"/>
                    <a:ext cx="183492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5" name="" descr="Soyo / Black / ATX Mid-Tower / 350-Watt Power Supply / 7-Bay / Front USB / Keyboard, Mouse, Speakers / Computer Case"/>
          <p:cNvPicPr/>
          <p:nvPr/>
        </p:nvPicPr>
        <p:blipFill>
          <a:blip r:embed="rId3"/>
          <a:stretch/>
        </p:blipFill>
        <p:spPr>
          <a:xfrm>
            <a:off x="5410080" y="2590920"/>
            <a:ext cx="31244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cann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ice that allows pictures to be placed into a comput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952880" y="1978200"/>
            <a:ext cx="41911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icropho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the user to record sounds as input to their comput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876920" y="1901880"/>
            <a:ext cx="42670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generate or reproduce voice, music, and other sound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876920" y="1901880"/>
            <a:ext cx="42670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und Car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s the speakers and microphone to the comput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876920" y="1901880"/>
            <a:ext cx="42670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d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place where the computer is connected to the phone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876920" y="1901880"/>
            <a:ext cx="42670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twork Car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ircuit board that connects the computer to the rest of the network usually using special cab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952880" y="1978200"/>
            <a:ext cx="40388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ftwa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grams that tell the computer what to do.  It provides instructions that the CPU will need to carry ou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5257800" y="2282760"/>
          <a:ext cx="342900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2282760"/>
                    <a:ext cx="34290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32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k Operat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software connects the hardware with the programs you want to ru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S-D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crosoft DOS (Disk Operating System) is a command line user interface. MS-DOS 1.0 was released in 1981 for IBM computer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of MS-D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1676520" y="1905120"/>
          <a:ext cx="6248160" cy="471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905120"/>
                    <a:ext cx="6248160" cy="47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ndow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438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family of operating systems developed and produced by Microsoft Corp.  It provides a software graphical user interface (GUI) used on IBM and compatible compute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562720" y="2133720"/>
            <a:ext cx="35812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P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entral Processing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132600" y="2017800"/>
          <a:ext cx="183492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32600" y="2017800"/>
                    <a:ext cx="183492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0" name="" descr="Intel Pentium4 3.4Ghz / 512k Cache / 800Mhz FSB / Socket 478 / HyperThreading / Processor"/>
          <p:cNvPicPr/>
          <p:nvPr/>
        </p:nvPicPr>
        <p:blipFill>
          <a:blip r:embed="rId3"/>
          <a:stretch/>
        </p:blipFill>
        <p:spPr>
          <a:xfrm>
            <a:off x="5029200" y="2209680"/>
            <a:ext cx="3659040" cy="36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of Windows (GUI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295280" y="1905120"/>
          <a:ext cx="6858000" cy="467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905120"/>
                    <a:ext cx="6858000" cy="46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cess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PU – The chip or chips that interpret and execute program instructions and manage the functions of input, output, and storage devic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952880" y="1978200"/>
            <a:ext cx="41911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uter Ca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the major components of the computer.  It helps protect the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132600" y="2017800"/>
          <a:ext cx="183492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32600" y="2017800"/>
                    <a:ext cx="183492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8" name="" descr="Just 4 PC - White Full-Tower Case with P4-Ready 485 Watt Power Supply and Front Media Ports - Supports ATX / MATX Mainboards"/>
          <p:cNvPicPr/>
          <p:nvPr/>
        </p:nvPicPr>
        <p:blipFill>
          <a:blip r:embed="rId3"/>
          <a:stretch/>
        </p:blipFill>
        <p:spPr>
          <a:xfrm>
            <a:off x="5410080" y="2209680"/>
            <a:ext cx="33530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nt of the Computer Ca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533412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side the Computer Ca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541044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ni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isplay screen to provide “output” to the user.  It is where you view the information your are working 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952880" y="1978200"/>
            <a:ext cx="41911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ideo Car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he computer to the monitor.  It is a circuit board attached to the motherboard that contains the memory and other circuitry necessary to send information to the monitor for display on scre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029200" y="2133720"/>
            <a:ext cx="3906720" cy="39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2T20:10:40Z</dcterms:created>
  <dc:creator>Tech Tech</dc:creator>
  <dc:description/>
  <dc:language>en-US</dc:language>
  <cp:lastModifiedBy>Student</cp:lastModifiedBy>
  <dcterms:modified xsi:type="dcterms:W3CDTF">2008-01-25T17:19:49Z</dcterms:modified>
  <cp:revision>51</cp:revision>
  <dc:subject/>
  <dc:title>Computer Parts</dc:title>
</cp:coreProperties>
</file>